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E0A-D9A5-48C8-B30E-32576463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0E0-BD42-425D-BA34-0F902EF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768-16DE-4AE4-A479-34AB2589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8DD-A8AF-4322-A7DF-0AD4BDD0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1AA-91EF-47CA-9EDC-F5489CE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409-9CFD-42EB-ABC1-CC587A5E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D93-61F8-4AE7-BDB5-1B1AE01E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93B-0F2D-403A-8522-078A040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421-B51E-402C-B1A1-849D43C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73C-D984-409A-9532-FCEB17A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556-0835-4FE3-8E7C-626615C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D98-E6BE-41BF-8687-DD930B9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77C-398A-455F-9BF0-028B9626DE1C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740" y="1872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009800" y="723960"/>
            <a:ext cx="6362280" cy="4724280"/>
            <a:chOff x="100980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272700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193860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446688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20112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256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00980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496872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455292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13872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07176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30720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38712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80572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24928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264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2388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934640"/>
            <a:ext cx="11810880" cy="6229440"/>
            <a:chOff x="31775400" y="1093464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93464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5824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4928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4432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7748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8236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6060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13028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91096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486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6836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560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3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9"/>
          <p:cNvSpPr/>
          <p:nvPr/>
        </p:nvSpPr>
        <p:spPr>
          <a:xfrm>
            <a:off x="3436632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1"/>
          <p:cNvSpPr/>
          <p:nvPr/>
        </p:nvSpPr>
        <p:spPr>
          <a:xfrm>
            <a:off x="38099880" y="1743084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9"/>
          <p:cNvSpPr/>
          <p:nvPr/>
        </p:nvSpPr>
        <p:spPr>
          <a:xfrm>
            <a:off x="3781440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1"/>
          <p:cNvSpPr/>
          <p:nvPr/>
        </p:nvSpPr>
        <p:spPr>
          <a:xfrm>
            <a:off x="34670880" y="1743084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547960" y="4457880"/>
            <a:ext cx="2286000" cy="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5T03:33:45Z</dcterms:modified>
  <cp:revision>54</cp:revision>
  <dc:subject/>
  <dc:title>Slide 1</dc:title>
</cp:coreProperties>
</file>